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5A6-EA30-42E1-A2E3-331CDB60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1C51-034E-44A2-A2D0-3987CE4F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952-0968-46E7-8FBA-42A378FF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8C0-B57F-4523-A8F5-338388F0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23B8-22E5-4C46-B14D-F04A129C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342C-BE0E-49A5-9521-3BFEAEBE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25E5-A19A-4578-9BA9-E04982A4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CA78-28B0-4CB0-BF78-8444896F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ADCD-6CF8-4F48-A136-D1FDE087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DC2D-5272-4496-9115-FB74DCE0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D045-6931-44ED-AD57-E3A369E5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076-47EC-4C5B-A5B8-FF3FA895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FE0A-9FA1-4015-B5D2-EF0F0B81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EC3E-08A6-4E83-8D22-C98037B9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63DF-DDC3-43E9-9CF9-19D81D22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E1B4-5E5B-4182-ABE1-57C2B351A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B17D-9BAE-4B61-A93D-DEEEB101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336-6B2E-4C19-9EB3-839461E6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80C-6D31-463A-A1D7-C1EBEE61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4D65-55E4-4C86-91A4-17B907D8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58F5-154A-4336-93BE-7E7B242E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046-AFFB-43F5-9F0C-03FD3F88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60E-958A-4283-987C-12A1130E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7B7C-54F8-40F2-9E65-DE1E1D7D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D63F-1D5D-436A-B3FB-0F69A54A423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AE8E-C32B-4C33-8A9F-87D0A9C0FF3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1680" y="1214280"/>
          <a:ext cx="8540640" cy="3840480"/>
        </p:xfrm>
        <a:graphic>
          <a:graphicData uri="http://schemas.openxmlformats.org/drawingml/2006/table">
            <a:tbl>
              <a:tblPr/>
              <a:tblGrid>
                <a:gridCol w="1841400"/>
                <a:gridCol w="3929040"/>
                <a:gridCol w="2770200"/>
              </a:tblGrid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to Exp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in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ments and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iste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idea of the verb in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ad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, he underst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certain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may li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110"/>
          <p:cNvSpPr/>
          <p:nvPr/>
        </p:nvSpPr>
        <p:spPr>
          <a:xfrm>
            <a:off x="1928880" y="5143680"/>
            <a:ext cx="4857840" cy="11073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gatio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Indicativ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mood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DEA OF MOO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1EB90A1F-D2AE-4C03-8221-8790FA05AB9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609480" y="1563840"/>
            <a:ext cx="792504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hilemon 4-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ὐχαριστω τῳ θεῳ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σου την ἀγαπη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give thanks to God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your lov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cts 18.8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λοι των Κορινθι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πιστευ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y of the Corinthian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a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ere believ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fro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I hear) but are in th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eaning 'hearing' (one is singular, one is plural). A participle works alongside a main verb adding a further layer of meaning: not just 'I give thanks' but 'hearing of your love', not just 'they were believing' but 'hearing'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AF331C52-6FD2-42EC-8704-ED49BA98F5E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1502D3F3-D848-497D-B224-27B3463E0DD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47640" y="1828800"/>
            <a:ext cx="784872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,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00280" y="3962520"/>
            <a:ext cx="754380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tense (Present or Aorist), and may have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-41400" y="1209600"/>
            <a:ext cx="8804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1 The form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81280" y="1838160"/>
          <a:ext cx="5305320" cy="1951200"/>
        </p:xfrm>
        <a:graphic>
          <a:graphicData uri="http://schemas.openxmlformats.org/drawingml/2006/table">
            <a:tbl>
              <a:tblPr/>
              <a:tblGrid>
                <a:gridCol w="1203120"/>
                <a:gridCol w="2049480"/>
                <a:gridCol w="20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uline Nominativ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Text Box 75"/>
          <p:cNvSpPr/>
          <p:nvPr/>
        </p:nvSpPr>
        <p:spPr>
          <a:xfrm>
            <a:off x="214200" y="3786120"/>
            <a:ext cx="892980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ndicative and Imperative, the Aorist has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does not have an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lural participles both have endings in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ντ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orist participles have an ‘a’ sound, the Present an ‘o’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the normal rul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84CED2CB-C3B9-4A61-BBE4-61F15AF6ECB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143000" y="1371600"/>
            <a:ext cx="6858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2 The meaning of the parti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0440" y="2514600"/>
          <a:ext cx="8763120" cy="1401840"/>
        </p:xfrm>
        <a:graphic>
          <a:graphicData uri="http://schemas.openxmlformats.org/drawingml/2006/table">
            <a:tbl>
              <a:tblPr/>
              <a:tblGrid>
                <a:gridCol w="2259000"/>
                <a:gridCol w="6504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ocess – the action in the Participle is a process going on at the same time as the main verb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action in the Participle occurred before the main verb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35"/>
          <p:cNvSpPr/>
          <p:nvPr/>
        </p:nvSpPr>
        <p:spPr>
          <a:xfrm>
            <a:off x="609480" y="4495680"/>
            <a:ext cx="792504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Participle = Simultane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Participle =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2DC662A1-6C2B-4F47-9E56-42C7C9FC369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357120" y="1525680"/>
            <a:ext cx="816768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4.1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πα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ρα την θαλασσαν τη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αλιλαιας εἰδε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he saw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υο ἀδελφ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wal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 of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lilee, he saw two broth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: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ut)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ρῳδης ἐλεγ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Herod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is he said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292A49B3-6DE5-4654-8EEC-0091441DCDD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1257480" y="1643040"/>
            <a:ext cx="6629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4.3 Participles with objec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42960" y="2928960"/>
            <a:ext cx="857232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ψαν τον ὀχλον </a:t>
            </a:r>
            <a:r>
              <a:rPr b="0" lang="el-GR" sz="30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Ἰησους ἐκηρυξεν τον λογον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When he saw the crowd, Jesus proclaimed the word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980F2B65-8093-4106-87CF-8EFEE12C9EC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traight Connector 22"/>
          <p:cNvSpPr/>
          <p:nvPr/>
        </p:nvSpPr>
        <p:spPr>
          <a:xfrm flipH="1">
            <a:off x="4852800" y="5000760"/>
            <a:ext cx="6120" cy="38412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99D7C475-7546-4082-95C6-D026D31ADAA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530280" y="1357200"/>
            <a:ext cx="8072280" cy="4786560"/>
          </a:xfrm>
          <a:prstGeom prst="rect">
            <a:avLst/>
          </a:prstGeom>
          <a:noFill/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857160" y="1357200"/>
            <a:ext cx="7402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nk of the participle starting off a new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ple Senten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ame 5"/>
          <p:cNvSpPr/>
          <p:nvPr/>
        </p:nvSpPr>
        <p:spPr>
          <a:xfrm>
            <a:off x="107172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1170000" y="34704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ame 7"/>
          <p:cNvSpPr/>
          <p:nvPr/>
        </p:nvSpPr>
        <p:spPr>
          <a:xfrm>
            <a:off x="107172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ame 8"/>
          <p:cNvSpPr/>
          <p:nvPr/>
        </p:nvSpPr>
        <p:spPr>
          <a:xfrm>
            <a:off x="107172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115740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1187280" y="54021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"/>
          <p:cNvSpPr/>
          <p:nvPr/>
        </p:nvSpPr>
        <p:spPr>
          <a:xfrm flipH="1">
            <a:off x="2069640" y="4002120"/>
            <a:ext cx="1800" cy="42876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4"/>
          <p:cNvSpPr/>
          <p:nvPr/>
        </p:nvSpPr>
        <p:spPr>
          <a:xfrm flipH="1">
            <a:off x="2069640" y="5002200"/>
            <a:ext cx="1800" cy="357120"/>
          </a:xfrm>
          <a:prstGeom prst="line">
            <a:avLst/>
          </a:prstGeom>
          <a:ln w="25560">
            <a:solidFill>
              <a:srgbClr val="fed1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5"/>
          <p:cNvSpPr/>
          <p:nvPr/>
        </p:nvSpPr>
        <p:spPr>
          <a:xfrm>
            <a:off x="3943440" y="34560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ame 16"/>
          <p:cNvSpPr/>
          <p:nvPr/>
        </p:nvSpPr>
        <p:spPr>
          <a:xfrm>
            <a:off x="3857760" y="342900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ame 17"/>
          <p:cNvSpPr/>
          <p:nvPr/>
        </p:nvSpPr>
        <p:spPr>
          <a:xfrm>
            <a:off x="3857760" y="4429080"/>
            <a:ext cx="2000160" cy="57168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ame 18"/>
          <p:cNvSpPr/>
          <p:nvPr/>
        </p:nvSpPr>
        <p:spPr>
          <a:xfrm>
            <a:off x="3857760" y="5357880"/>
            <a:ext cx="2000160" cy="571320"/>
          </a:xfrm>
          <a:prstGeom prst="pie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9"/>
          <p:cNvSpPr/>
          <p:nvPr/>
        </p:nvSpPr>
        <p:spPr>
          <a:xfrm>
            <a:off x="3943440" y="44863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 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0"/>
          <p:cNvSpPr/>
          <p:nvPr/>
        </p:nvSpPr>
        <p:spPr>
          <a:xfrm>
            <a:off x="3959280" y="53848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1"/>
          <p:cNvSpPr/>
          <p:nvPr/>
        </p:nvSpPr>
        <p:spPr>
          <a:xfrm flipH="1">
            <a:off x="4857840" y="4000680"/>
            <a:ext cx="1440" cy="428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6497640" y="3911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7"/>
          <p:cNvSpPr/>
          <p:nvPr/>
        </p:nvSpPr>
        <p:spPr>
          <a:xfrm>
            <a:off x="6572160" y="396720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6500880" y="5000760"/>
            <a:ext cx="1928880" cy="571320"/>
          </a:xfrm>
          <a:prstGeom prst="rect">
            <a:avLst/>
          </a:prstGeom>
          <a:noFill/>
          <a:ln w="25560">
            <a:solidFill>
              <a:srgbClr val="ffe1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6572160" y="50385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30"/>
          <p:cNvSpPr/>
          <p:nvPr/>
        </p:nvSpPr>
        <p:spPr>
          <a:xfrm>
            <a:off x="5857920" y="3714840"/>
            <a:ext cx="639720" cy="48240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4"/>
          <p:cNvSpPr/>
          <p:nvPr/>
        </p:nvSpPr>
        <p:spPr>
          <a:xfrm>
            <a:off x="7462080" y="4483080"/>
            <a:ext cx="3240" cy="517680"/>
          </a:xfrm>
          <a:prstGeom prst="line">
            <a:avLst/>
          </a:prstGeom>
          <a:ln w="25560">
            <a:solidFill>
              <a:srgbClr val="fed1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7CD18C23-3512-4DB7-813D-F05BC68949F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7000" y="1600200"/>
            <a:ext cx="91440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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4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σπειρ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λογον σπειρ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πειρων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sowing (Presen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πειρ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I s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σπειρ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sowing one = the s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 sower is sowing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4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se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σ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ντε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having heard (Aorist masculine nom. sing.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κο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ντες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the having heard ones = those who he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These are the people who heard the wo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142920" y="11430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500040" y="2093760"/>
            <a:ext cx="8072640" cy="24642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n't be afraid to introduce words like 'who' into translation of participles which are acting as nouns. The aim is to convey the meaning in good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D7494E5F-2F7A-411D-8F53-9B7FF1E9B84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PARTICIPLES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641E5B25-BD46-4098-B3A4-3C4616E5418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85840" y="1785960"/>
            <a:ext cx="8358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cts 16.31: </a:t>
            </a:r>
            <a:r>
              <a:rPr b="0" lang="el-GR" sz="3200" spc="-1" strike="noStrike" u="sng">
                <a:solidFill>
                  <a:srgbClr val="ffffff"/>
                </a:solidFill>
                <a:uFillTx/>
                <a:latin typeface="Gentium"/>
              </a:rPr>
              <a:t>πιστευσον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 ἐπι τον κυριον Ἰησ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9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on the Lord Jesus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σον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is communicating a command (or exhortation).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ιστευω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is now in a differen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900" spc="-1" strike="noStrike">
                <a:solidFill>
                  <a:srgbClr val="ffffff"/>
                </a:solidFill>
                <a:latin typeface="Arial"/>
              </a:rPr>
              <a:t>Imperati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990720" y="1185840"/>
            <a:ext cx="7162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1 The formation of 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30200" y="1785960"/>
          <a:ext cx="6527880" cy="1523880"/>
        </p:xfrm>
        <a:graphic>
          <a:graphicData uri="http://schemas.openxmlformats.org/drawingml/2006/table">
            <a:tbl>
              <a:tblPr/>
              <a:tblGrid>
                <a:gridCol w="3149640"/>
                <a:gridCol w="1743120"/>
                <a:gridCol w="163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59"/>
          <p:cNvSpPr/>
          <p:nvPr/>
        </p:nvSpPr>
        <p:spPr>
          <a:xfrm>
            <a:off x="723960" y="3440160"/>
            <a:ext cx="7696080" cy="29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ar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erson imper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imperatives do not have the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orist h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uffix, as in the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mperative identical to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. Present 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norm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F0F382B0-C15E-4A8E-AC1B-5D09F9CC9E3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28"/>
          <p:cNvSpPr/>
          <p:nvPr/>
        </p:nvSpPr>
        <p:spPr>
          <a:xfrm>
            <a:off x="455760" y="1643040"/>
            <a:ext cx="8215200" cy="4126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's easy to mix up the Future Indicative and the Aorist Imperative (both have a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and no prefix). The endings are the ke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6: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ν ἐπι τον κυριον Ἰησου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ieve in the Lord Jesus! (Aorist Imper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       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27.4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σομεν ἐπ’ αὐτ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will believe in him. (Future Indica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45282C74-04FF-487C-AADD-E06575E523B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51AEC82D-72EB-40E5-A59F-CC2FBF873F3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390680" y="1752480"/>
            <a:ext cx="6362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7.2.2 The difference between the Present and Aorist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0" y="3321000"/>
            <a:ext cx="457200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 –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orist -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MPER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C6526160-C514-4129-9CC5-A83A4EA0F5D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71680" y="1357200"/>
            <a:ext cx="8001000" cy="1715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orist Imperative is more common than the Present Imperative – therefore take note when Present Imperative is us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8280" y="3429000"/>
            <a:ext cx="892980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ηρυσσετε το εὐαγγελι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Preach (pl.) the good-news!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ntinually: Go on preaching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ψατε τα προβατ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atch (pl.) the sheep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υριε, σωσον τον λα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- Lord, save the people! (defaul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857160" y="2244600"/>
            <a:ext cx="73868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6.1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λλα ἐχω ὑμ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have many thing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yo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equivalent of 'to say' in English. This is clearly closely related to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ing 'I say' – it is the same verb but now in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o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BAEE5B93-DA85-469D-B243-06B87F0A76E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8B77B556-FDF4-4503-9F60-992EF6C6297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84480" y="1943280"/>
          <a:ext cx="4728960" cy="1020600"/>
        </p:xfrm>
        <a:graphic>
          <a:graphicData uri="http://schemas.openxmlformats.org/drawingml/2006/table">
            <a:tbl>
              <a:tblPr/>
              <a:tblGrid>
                <a:gridCol w="1506600"/>
                <a:gridCol w="1782720"/>
                <a:gridCol w="14396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46"/>
          <p:cNvSpPr/>
          <p:nvPr/>
        </p:nvSpPr>
        <p:spPr>
          <a:xfrm>
            <a:off x="533520" y="3525840"/>
            <a:ext cx="861048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Infinitive can be translated as ‘to…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s in the Imperative, the Aorist Infinitive has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uffix, but no au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 follow the normal rules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ε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ιλησ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42920" y="1279440"/>
            <a:ext cx="9358200" cy="50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εν δωδε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α δαιμονι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nd he made twelve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av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thority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throw ou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infinitives are Present, because the twelve will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ously have authority and will repeatedly throw ou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Ἰησους θελ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σωσ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Jesus is will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save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nfinitive is Aorist because it does not point to a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inual 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7:Grammar </a:t>
            </a:r>
            <a:fld id="{2559233A-0CDD-4809-962E-D7EA4517EF2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247680" y="2858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INFINI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21:21:07Z</dcterms:created>
  <dc:creator>Sarah</dc:creator>
  <dc:description/>
  <dc:language>en-US</dc:language>
  <cp:lastModifiedBy>Sarah</cp:lastModifiedBy>
  <dcterms:modified xsi:type="dcterms:W3CDTF">2009-03-04T11:29:29Z</dcterms:modified>
  <cp:revision>59</cp:revision>
  <dc:subject/>
  <dc:title>Slide 1</dc:title>
</cp:coreProperties>
</file>